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329-FE6C-4D1E-B13E-9A1D7059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793-7AD5-40BC-B655-33DAB4B4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88F-40B2-4284-8947-87DE330C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C34-81F4-4C44-B8A8-F53A8BC9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B5E-331A-4703-9D75-1F659AC9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10E-373B-4F83-9F70-BDF1C173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D59-5976-452B-A01E-AE0AB80C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40F-FF5A-47AD-8DFE-F973A9FE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FC9-3960-4BA8-8A97-51B4FA8F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E63-E3C2-4C8E-A57F-5E3E41A3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6C4-1A78-48AF-839C-D8CDF0F6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20E-0F8D-4F27-8791-4E6097F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97DA-FA79-4744-B396-79ED8E630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ercise 2: adding intermedia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11436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PS CGE Course: March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w features for CG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4552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 far: gross output = net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oss output determined by value of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mediates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e intermediate de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 to SAM: no other changes (spreadsh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ume Leontie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nts &amp; Suggestions for CG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133280"/>
            <a:ext cx="9144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IN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c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Quantity of intm comm c used by ac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V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Price of value added of ac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V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≠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see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# of equations &amp;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GE1: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GE2: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c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c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chnical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antity of intm input of comm c per unit of ac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use: Value Added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80920" y="4103640"/>
                <a:ext cx="65516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06280" y="1584360"/>
            <a:ext cx="873144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Traditional text book econom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ue of production typically  determined by labour and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anges in output prices are due to factors only and cause resource re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anges in prices of intermediate costs are typically ign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equired: distinction between gross output prices and value added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50920" y="5454720"/>
                <a:ext cx="3951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IN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a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26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81640" y="5454720"/>
                <a:ext cx="3422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c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a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422360" y="5319720"/>
            <a:ext cx="5715000" cy="1214280"/>
            <a:chOff x="1422360" y="5319720"/>
            <a:chExt cx="5715000" cy="1214280"/>
          </a:xfrm>
        </p:grpSpPr>
        <p:sp>
          <p:nvSpPr>
            <p:cNvPr id="55" name=""/>
            <p:cNvSpPr/>
            <p:nvPr/>
          </p:nvSpPr>
          <p:spPr>
            <a:xfrm>
              <a:off x="1422360" y="5319720"/>
              <a:ext cx="1170000" cy="1079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97720" y="5454720"/>
              <a:ext cx="539640" cy="1079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97000" y="5319720"/>
              <a:ext cx="4770360" cy="1350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Value Added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80920" y="3024360"/>
                <a:ext cx="30146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a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80920" y="4689360"/>
                <a:ext cx="35229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c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80920" y="5904000"/>
                <a:ext cx="3541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c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80920" y="1403280"/>
                <a:ext cx="39164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c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a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1640" y="1089000"/>
            <a:ext cx="1889280" cy="16192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cours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roll through CGE2 task.g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Check *++ for 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Check $includ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Rep2a task.inc: capital stock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Rep2b task.inc: productivity in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e what you don’t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lective discussion of GAMS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36640" y="233280"/>
            <a:ext cx="5334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ERCIS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000" y="1268280"/>
            <a:ext cx="859608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lement in exercise CGE2 task.g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must complete blank spaces in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arch for 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*Complete!!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py “$ontext” down and check coding throug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ld down shift &amp; run [F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eck if necessary, Excel spreadsheet with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$offtext” righ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porting / simulation routine at the end of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$includ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p2a task: increase capital stock by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p 2b task: increase productivity of agriculture by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ower agriculture’s inputs of non-agriculture 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this work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0:06:18Z</dcterms:created>
  <dc:creator>Dirk</dc:creator>
  <dc:description/>
  <dc:language>en-US</dc:language>
  <cp:lastModifiedBy>Dirk New</cp:lastModifiedBy>
  <dcterms:modified xsi:type="dcterms:W3CDTF">2007-03-18T11:29:04Z</dcterms:modified>
  <cp:revision>11</cp:revision>
  <dc:subject/>
  <dc:title>Slide 1</dc:title>
</cp:coreProperties>
</file>